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5439-905D-487E-BAF1-26DA96578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E9AE-F266-4722-95BB-073F17DDF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DA88-C597-438D-87A5-C4675F0DC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0106-57EE-481E-AD50-0714A4017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D287-0492-4320-9EAA-10DFB0BCE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3248-AC8E-43FC-8515-ED0AFEFB5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2A8B-3F26-4277-A146-D702556A0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D5B2-3092-4093-BF30-BC962C85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24A9-89C1-4119-8EFA-D45943E8C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F1C1-5358-4E63-8281-BC5EBB6BF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E52A-0E78-4DE2-99E5-B5CD46CE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7ACA-A68F-4D1B-92F0-6AE531297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64480" indent="-2170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68680" indent="-17352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16080" indent="-17352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8576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8580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232-75B2-4CE7-80D6-C78FB27E9330}" type="slidenum"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y - definition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7748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branch of biology that developed from natural history is called ecolog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2200" y="3013200"/>
            <a:ext cx="7866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the study of interactions that take place between organisms and their environmen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" y="914400"/>
            <a:ext cx="45698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What is ecology?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200" y="2286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990720"/>
            <a:ext cx="2057400" cy="9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abitat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s the place where an organism lives out its lif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pond for a beaver; tree for bark insect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4876920" cy="382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abitats can change, and even disappear.  Habitats can change due to both natural and human cause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90960" cy="278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5843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though several species may share a habitat, the food, shelter, and other essential resources of that habitat are often used in different way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584520"/>
            <a:ext cx="79246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he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the role or position a species has in its environment—how it meets its specific needs for food and shelter, how and where it survives, and where it reproduces in its environment.  Ex:  owls control rodent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opulation at nigh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7175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pecies’ niche, therefore, includes all its interactions with the biotic and abiotic parts of its habita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394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t is thought that two species can’t exist for long in the same community if their niches are the sam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175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relationship in which there is a close and permanent association between organisms of different species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39408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ymbiosis means living together.  Three kinds of symbiosis are recognized: mutualism, commensalism, and parasitism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676520"/>
            <a:ext cx="2666880" cy="77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ymbiotic relationship in which both species benefit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utual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bacteria in our gu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1587600"/>
            <a:ext cx="5181480" cy="34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1600200"/>
            <a:ext cx="3353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mmensal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a symbiotic relationship in which one species benefits and the other species is neither harmed nor benefited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lichen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984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ome interactions are harmful to one species, yet beneficial to another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7964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ymbiotic relationship in which a member of one species derives benefit at the expense of another species (the host)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arasit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arasites have evolved in such a way that they harm, but usually do not kill the host species.  Ex:  tapewor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49568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-predator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2252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predator is a type of consumer.  Predators seek out and eat other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2768760"/>
            <a:ext cx="5486400" cy="309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2200" y="1905120"/>
            <a:ext cx="7866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st ecologists use both qualitative and quantitative research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41120" y="914400"/>
            <a:ext cx="5392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6880" y="3200400"/>
            <a:ext cx="7480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litative information by observing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-predator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redation is found in all ecosystems and includes organisms that eat plants and animal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22272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animals that predators eat are called pre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1523880"/>
            <a:ext cx="8375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The study of interactions that take place between organisms and their environment is __________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400" y="4876920"/>
            <a:ext cx="286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i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560" y="4267080"/>
            <a:ext cx="286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3760" y="3657600"/>
            <a:ext cx="3350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1240" y="3005280"/>
            <a:ext cx="2893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iosis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Ecology is a branch of biology that developed from natural history.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" y="1698480"/>
            <a:ext cx="8375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ich of the following is a biotic factor?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1720" y="4648320"/>
            <a:ext cx="2375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ht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080" y="3875040"/>
            <a:ext cx="3350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arthworm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1920" y="3124080"/>
            <a:ext cx="2619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oil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5080" y="2441520"/>
            <a:ext cx="310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oisture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Biotic factors are all the living organisms that inhabit an environment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280" y="8380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1459080"/>
            <a:ext cx="8375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(n) __________ is a group of organisms, all of the same species, which interbreed and live in the same place at the same time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440" y="5261040"/>
            <a:ext cx="310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abitat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760" y="4487760"/>
            <a:ext cx="359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cosystem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75240" y="3809880"/>
            <a:ext cx="4325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pulation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221040" y="3127320"/>
            <a:ext cx="627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iological community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400" y="1219320"/>
            <a:ext cx="8020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B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Communities and ecosystems are comprised of more than one species. Habitat refers to the place an organism lives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172200" cy="276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676520"/>
            <a:ext cx="3200400" cy="71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ntitative data by making measurements and carrying out controlled experiments in the field and in the laborator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1120" y="914400"/>
            <a:ext cx="5392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38480" y="1898640"/>
            <a:ext cx="4648320" cy="305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32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nonliving parts of an organism’s environment are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2200" y="3470400"/>
            <a:ext cx="7866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 of abiotic factors include air currents, temperature, moisture, light, and soil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914400"/>
            <a:ext cx="762012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1747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cology includes the study of features of the environment that are not living because these features are part of an organism’s lif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77520" y="914400"/>
            <a:ext cx="978192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7749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biotic factors have obvious effects on living things and often determine which species survive in a particular environmen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7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24840" y="914400"/>
            <a:ext cx="106048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living environment: Biotic 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748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key consideration of ecology is that living organisms affect other living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994120"/>
            <a:ext cx="7924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the living organisms that inhabit an environment are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plants, animals, fungi, protists,   bacteri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1055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organisms depend on others directly or indirectly for food, shelter, reproduction or protection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tem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747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made up of interacting populations in a biological community and the community’s abiotic factor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7749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re are two major kinds of ecosystems—terrestrial ecosystems and aquatic ecosyste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080" y="914400"/>
            <a:ext cx="26496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xample ecosystems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2044800"/>
            <a:ext cx="4724280" cy="36669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812520" y="1981080"/>
            <a:ext cx="408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Table 2.1 Examples of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2311560"/>
            <a:ext cx="1616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Terrestrial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6120" y="2746440"/>
            <a:ext cx="213120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ores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ld farm fiel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Meadow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Yar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Garden plo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mpty lo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Compost heap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Volcano site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Rotting log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1240" y="2222640"/>
            <a:ext cx="1295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tic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00480" y="2743200"/>
            <a:ext cx="133344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reshwater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Pon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Lake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tream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alt water (marine)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cean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rium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92520" y="2252520"/>
            <a:ext cx="1768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ther Sites for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8080" y="2736720"/>
            <a:ext cx="176832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Human body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Skin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Intestine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uth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uilding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ld in walls, floors, or basement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Ventilation system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athroom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Food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Any moldy food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Refrigerator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730600"/>
            <a:ext cx="1676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73400"/>
            <a:ext cx="167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0"/>
            <a:ext cx="1676160" cy="3429000"/>
          </a:xfrm>
          <a:prstGeom prst="rect">
            <a:avLst/>
          </a:prstGeom>
          <a:noFill/>
          <a:ln w="76320">
            <a:solidFill>
              <a:srgbClr val="e3f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24:35Z</dcterms:created>
  <dc:creator>Clayton Johns</dc:creator>
  <dc:description/>
  <dc:language>en-US</dc:language>
  <cp:lastModifiedBy>Clayton Johns</cp:lastModifiedBy>
  <dcterms:modified xsi:type="dcterms:W3CDTF">2008-10-06T17:54:58Z</dcterms:modified>
  <cp:revision>3</cp:revision>
  <dc:subject>Chapter 2</dc:subject>
  <dc:title>Ecoloy - definition</dc:title>
</cp:coreProperties>
</file>